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6012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2"/>
          </p:nvPr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720720" y="742680"/>
            <a:ext cx="520056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3"/>
          </p:nvPr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4"/>
          </p:nvPr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EC95-7DED-41ED-B50F-A291C69559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75C5-A8DF-4904-867F-08CF4612537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A4F5-A78B-47AA-856A-FAFCEF74830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8C9A-27F7-4DCC-93CB-CE99564D551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00280" y="459252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80AF-329E-4D43-85F3-E01A19965AF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DFE5-6E83-4472-AAA7-7D95F450728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E904-1770-4272-80A8-41D4BB33E52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F037-8CC7-471F-B4E6-5C8B0DD50DB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087560" y="4808520"/>
            <a:ext cx="486864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357D-5E0E-477C-882E-FB802271922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F2B8-0C91-4C40-9ED6-652CE9E5456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0BF6-F0CD-4A75-B1F8-31E66912162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71200" y="4735440"/>
            <a:ext cx="4869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4993-5E25-4E8E-BEC1-7EF39278258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6CDB-370D-4213-B1A7-61024CD3FEF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75E6-2D4C-4313-AFE4-7D6E502F9C0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A1AB-5202-47D3-AF42-665215D5B8A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D909-CA08-4871-8EB4-633DF6C6397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EF4A-2866-41E9-AC8E-FB8CC01D2DB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FF43-E6B7-4644-9F87-C2592BFAF24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5416-87AD-4151-90F1-35883C2804B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B05D-BD37-454C-890B-770102E7030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DDA9-B849-49A9-9A23-84917584EB1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6985-AB8F-44B4-B432-AEDD2FADA4C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C680-4AC9-4791-A104-6501667BCB4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18F8-D3A4-4C24-BFE2-91B366F4B23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874E-A5B6-4050-9BAC-14283659E6B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31DF-B11D-4225-AACE-4E90C18A2CD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C521-EA90-490E-9802-8AE2AC0A647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E574-5DBF-4AAB-A2F3-FF0D1DA9C7C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FF2E-A560-45DF-81B9-AA33A720EBF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788A-81D9-4F97-B761-E40392A638E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3186-1C35-4937-8711-514E145885A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A00E-6615-424C-9540-8DB113FD9CD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5B05-21E0-446C-ACC5-ECA04E80D45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4377-4B74-473D-A155-99F6D9C820A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FF1A-62A8-4449-AC48-B23278BADBF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71200" y="4808520"/>
            <a:ext cx="48690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A1F4-B17A-429F-8F51-430E4B62CD6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AC5F-F53D-464F-A4E5-BF5A6B160A9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2395-ACB3-4478-A2F6-3D1C2B01567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3924-9777-4330-BF05-3E78E3C7C65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0672-80AD-4546-A229-FC629F4FDD6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28280" y="4664160"/>
            <a:ext cx="4869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CBB1-8E7A-4D8C-BC97-DA5715E0323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28280" y="4592520"/>
            <a:ext cx="4869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762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5114-091A-4AAF-B859-79412FF3D35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720720" y="743040"/>
            <a:ext cx="5200560" cy="3714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885960" y="4704840"/>
            <a:ext cx="4868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2600" y="3944520"/>
            <a:ext cx="820548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04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2600" y="394452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040" y="394452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87120" y="153468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61640" y="153468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2600" y="394452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87120" y="394452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61640" y="394452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400392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040" y="1534680"/>
            <a:ext cx="400392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2960" y="304920"/>
            <a:ext cx="83008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040" y="1534680"/>
            <a:ext cx="400392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2600" y="394452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400392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04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040" y="394452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04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2600" y="3944520"/>
            <a:ext cx="820548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2600" y="3944520"/>
            <a:ext cx="820548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04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2600" y="394452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040" y="394452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87120" y="153468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61640" y="153468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2600" y="394452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87120" y="394452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61640" y="3944520"/>
            <a:ext cx="2642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400392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040" y="1534680"/>
            <a:ext cx="400392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2960" y="304920"/>
            <a:ext cx="83008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040" y="1534680"/>
            <a:ext cx="400392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2600" y="394452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400392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04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040" y="394452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040" y="1534680"/>
            <a:ext cx="400392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2600" y="3944520"/>
            <a:ext cx="820548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9"/>
          <p:cNvGrpSpPr/>
          <p:nvPr/>
        </p:nvGrpSpPr>
        <p:grpSpPr>
          <a:xfrm>
            <a:off x="0" y="0"/>
            <a:ext cx="2527200" cy="1262160"/>
            <a:chOff x="0" y="0"/>
            <a:chExt cx="2527200" cy="1262160"/>
          </a:xfrm>
        </p:grpSpPr>
        <p:sp>
          <p:nvSpPr>
            <p:cNvPr id="1" name="Rectangle 90"/>
            <p:cNvSpPr/>
            <p:nvPr/>
          </p:nvSpPr>
          <p:spPr>
            <a:xfrm>
              <a:off x="27000" y="0"/>
              <a:ext cx="2500200" cy="1262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91"/>
            <p:cNvSpPr/>
            <p:nvPr/>
          </p:nvSpPr>
          <p:spPr>
            <a:xfrm>
              <a:off x="0" y="0"/>
              <a:ext cx="1262160" cy="126216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912960" y="6314760"/>
            <a:ext cx="7959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ageRef"/>
          <p:cNvSpPr/>
          <p:nvPr/>
        </p:nvSpPr>
        <p:spPr>
          <a:xfrm>
            <a:off x="8724960" y="6291360"/>
            <a:ext cx="44748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fld id="{44C61141-D68A-46AD-89FC-127A656A7B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125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1250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86000" indent="-258840">
              <a:spcBef>
                <a:spcPts val="1250"/>
              </a:spcBef>
              <a:buClr>
                <a:srgbClr val="ffffff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16280" indent="-304920">
              <a:spcBef>
                <a:spcPts val="1250"/>
              </a:spcBef>
              <a:buClr>
                <a:srgbClr val="000000"/>
              </a:buClr>
              <a:buSzPct val="90000"/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916280" indent="-304920">
              <a:spcBef>
                <a:spcPts val="1250"/>
              </a:spcBef>
              <a:buClr>
                <a:srgbClr val="ffffff"/>
              </a:buClr>
              <a:buSzPct val="90000"/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916280" indent="-304920">
              <a:spcBef>
                <a:spcPts val="1250"/>
              </a:spcBef>
              <a:buClr>
                <a:srgbClr val="ffffff"/>
              </a:buClr>
              <a:buSzPct val="90000"/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FileRef"/>
          <p:cNvSpPr/>
          <p:nvPr/>
        </p:nvSpPr>
        <p:spPr>
          <a:xfrm>
            <a:off x="5181480" y="6386400"/>
            <a:ext cx="357372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algn="r">
              <a:spcBef>
                <a:spcPts val="437"/>
              </a:spcBef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600200" y="1295280"/>
            <a:ext cx="64008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16"/>
          <p:cNvGrpSpPr/>
          <p:nvPr/>
        </p:nvGrpSpPr>
        <p:grpSpPr>
          <a:xfrm>
            <a:off x="0" y="1828800"/>
            <a:ext cx="9601200" cy="3198960"/>
            <a:chOff x="0" y="1828800"/>
            <a:chExt cx="9601200" cy="3198960"/>
          </a:xfrm>
        </p:grpSpPr>
        <p:sp>
          <p:nvSpPr>
            <p:cNvPr id="46" name="Rectangle 210"/>
            <p:cNvSpPr/>
            <p:nvPr/>
          </p:nvSpPr>
          <p:spPr>
            <a:xfrm>
              <a:off x="0" y="1828800"/>
              <a:ext cx="9601200" cy="3198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360" bIns="45360" anchor="ctr">
              <a:noAutofit/>
            </a:bodyPr>
            <a:p>
              <a:pPr algn="ctr"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211"/>
            <p:cNvSpPr/>
            <p:nvPr/>
          </p:nvSpPr>
          <p:spPr>
            <a:xfrm>
              <a:off x="0" y="1828800"/>
              <a:ext cx="3198960" cy="319896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360" bIns="45360" anchor="ctr">
              <a:noAutofit/>
            </a:bodyPr>
            <a:p>
              <a:pPr algn="ctr"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" name="LogoMainW" descr="mar_w"/>
          <p:cNvPicPr/>
          <p:nvPr/>
        </p:nvPicPr>
        <p:blipFill>
          <a:blip r:embed="rId3"/>
          <a:stretch/>
        </p:blipFill>
        <p:spPr>
          <a:xfrm>
            <a:off x="914400" y="304920"/>
            <a:ext cx="1527120" cy="1060200"/>
          </a:xfrm>
          <a:prstGeom prst="rect">
            <a:avLst/>
          </a:prstGeom>
          <a:ln w="0">
            <a:noFill/>
          </a:ln>
        </p:spPr>
      </p:pic>
      <p:pic>
        <p:nvPicPr>
          <p:cNvPr id="49" name="LogoMainK" descr="mar_k"/>
          <p:cNvPicPr/>
          <p:nvPr/>
        </p:nvPicPr>
        <p:blipFill>
          <a:blip r:embed="rId4"/>
          <a:stretch/>
        </p:blipFill>
        <p:spPr>
          <a:xfrm>
            <a:off x="914400" y="304920"/>
            <a:ext cx="1527120" cy="1060200"/>
          </a:xfrm>
          <a:prstGeom prst="rect">
            <a:avLst/>
          </a:prstGeom>
          <a:ln w="0">
            <a:noFill/>
          </a:ln>
        </p:spPr>
      </p:pic>
      <p:pic>
        <p:nvPicPr>
          <p:cNvPr id="50" name="LogoEndorsementW" descr="mmc_end_w"/>
          <p:cNvPicPr/>
          <p:nvPr/>
        </p:nvPicPr>
        <p:blipFill>
          <a:blip r:embed="rId5"/>
          <a:stretch/>
        </p:blipFill>
        <p:spPr>
          <a:xfrm>
            <a:off x="914400" y="5943600"/>
            <a:ext cx="2498760" cy="463680"/>
          </a:xfrm>
          <a:prstGeom prst="rect">
            <a:avLst/>
          </a:prstGeom>
          <a:ln w="0">
            <a:noFill/>
          </a:ln>
        </p:spPr>
      </p:pic>
      <p:pic>
        <p:nvPicPr>
          <p:cNvPr id="51" name="LogoEndorsementK" descr="mmc_end_k"/>
          <p:cNvPicPr/>
          <p:nvPr/>
        </p:nvPicPr>
        <p:blipFill>
          <a:blip r:embed="rId6"/>
          <a:stretch/>
        </p:blipFill>
        <p:spPr>
          <a:xfrm>
            <a:off x="914400" y="5943600"/>
            <a:ext cx="2498760" cy="463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125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1250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86000" indent="-258840">
              <a:spcBef>
                <a:spcPts val="1250"/>
              </a:spcBef>
              <a:buClr>
                <a:srgbClr val="ffffff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16280" indent="-304920">
              <a:spcBef>
                <a:spcPts val="1250"/>
              </a:spcBef>
              <a:buClr>
                <a:srgbClr val="000000"/>
              </a:buClr>
              <a:buSzPct val="90000"/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916280" indent="-304920">
              <a:spcBef>
                <a:spcPts val="1250"/>
              </a:spcBef>
              <a:buClr>
                <a:srgbClr val="ffffff"/>
              </a:buClr>
              <a:buSzPct val="90000"/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916280" indent="-304920">
              <a:spcBef>
                <a:spcPts val="1250"/>
              </a:spcBef>
              <a:buClr>
                <a:srgbClr val="ffffff"/>
              </a:buClr>
              <a:buSzPct val="90000"/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9160" y="1980720"/>
            <a:ext cx="9505800" cy="1420920"/>
          </a:xfrm>
          <a:prstGeom prst="rect">
            <a:avLst/>
          </a:prstGeom>
          <a:noFill/>
          <a:ln w="0">
            <a:noFill/>
          </a:ln>
        </p:spPr>
        <p:txBody>
          <a:bodyPr lIns="0" rIns="84600" tIns="42480" bIns="424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RAVEL WIS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anaging Off-Campus Safety and Risk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“Managing the Risks for International Studies”</a:t>
            </a:r>
            <a:br>
              <a:rPr sz="3200"/>
            </a:b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rch 23, 2009</a:t>
            </a:r>
            <a:br>
              <a:rPr sz="3200"/>
            </a:b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295880" y="5877000"/>
            <a:ext cx="505296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ean Demchak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lobal Leader, Education Pract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veloping Concer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idnappings are comm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gnificant income strat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0">
              <a:spcBef>
                <a:spcPts val="624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al political confli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0">
              <a:spcBef>
                <a:spcPts val="624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rupt gover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0">
              <a:spcBef>
                <a:spcPts val="624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 Qaeda’s Global Network of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rica, Middle East, Central Asia, Southeast A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80880" y="624852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SAFETI On-Line Newsletter, Volume 2, #2, Fall-Winter 2001/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errorism’s Impact on Study Abroad?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0584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lines for safe study abroad progra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belongs at the foundation of a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ate a security manager or manag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 in security evaluations of host cou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 from institutions that have suffered critical inci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ain advice from a security profess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risk and evacuation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oid pitfall of “more remote, more rewarding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olve famil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 security plans and nurture student aware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ypes of Programs &amp; Activit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2600" y="198864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credit work experi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ships/service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land programs/faculty 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brid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enrollment/imm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nior” term/May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th-based mission outr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ypes of Programs &amp; Activit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2600" y="198864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ulty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bbatic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ul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ni trip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tional business travel by faculty/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ternational Risk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40258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re new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ervise social and athletic activ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 injuries caused by substance ab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 adequate fac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port saf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 harass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90760" y="1534680"/>
            <a:ext cx="402732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re no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perienced facul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guage and interpre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familiar leg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acu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standard health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ss of commun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lcohol Consumption Overseas for US Students Under 21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9880" y="1773360"/>
            <a:ext cx="820584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llenging question for US institutions where under 21 alcohol consumption is allowed in certain countri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ever approach your institution takes, three factors remain important for liability purpo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lain your approach in writing to students and, as appropriate, their parent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force your policy consistently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information about your policy in your release or waiver form that students (and parents) sign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ternational Travel Inciden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2600" y="198864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por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mobil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es: hired and 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dily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pe, sexual harassment, ass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xual Misconduct (students and trip lead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utgers University: Incidents and Claims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9880" y="1557000"/>
            <a:ext cx="820584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obi Fora Field Station, Kenya: Vehicle up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ida, Mexico: Sexual Assault (Rohypnol/Alcoho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encia, Spain: Knifing Assault, Improper Admission of Particip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ifa, Israel: FX Spine, Rock Climb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rid, Spain:  Sleep Walking, Fall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loor, Alcohol, No HIV Blood Supply Testing Protoc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Delhi, India: Severe Illness after Fumi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nghai, China:  Students present when US Bombed Chinese Embassy, Increased Anti-American senti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 loco parent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82044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“…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t is clear that parents and family members of students injured or killed in international studies tragedies are firmly advancing 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in loco parentis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theory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3792600" y="4653000"/>
            <a:ext cx="546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Richard C. K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Liability Issues in International Stud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FF” Mod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828800" y="2057400"/>
          <a:ext cx="5943600" cy="327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057400"/>
                    <a:ext cx="59436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utlin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00240" y="1773360"/>
            <a:ext cx="72007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tional Travel Statistic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s of Program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s of International Trave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agement of the R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 Financ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lements of Negligen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36600" y="1916280"/>
            <a:ext cx="8400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eless performance of a legal duty that causes har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iling to act reasonably when there is a duty to do so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duct below the established legal norm for protecting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now The Legal Clim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0520" y="1676160"/>
            <a:ext cx="78976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it the same away from campus as on campu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rt The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a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deral Regulations and Legis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is the legal climate different when outside of the Canadian bord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ased litigiousness in American society in general --- teaching others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w legal prece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ite headline:  “Travel Abroad, Sue at Ho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egal Responsibilit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9520" y="1700280"/>
            <a:ext cx="820584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 areas of law that may affect study abroad liability risks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Tort Liability:  claims which involve negligence such as failure to protect others from a reasonable risk of har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624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international study cases, institutions have a legal “duty of care” for particip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egal Responsibilit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07880" y="1628280"/>
            <a:ext cx="820584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ed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Contract Law:  documented relationships between participants &amp; program.  Any written agreement determines responsibility and right of involved parties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624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representations by program sponsor may be considered by court, includ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86000" indent="-258840">
              <a:spcBef>
                <a:spcPts val="624"/>
              </a:spcBef>
              <a:buClr>
                <a:srgbClr val="ffffff"/>
              </a:buClr>
              <a:buFont typeface="Arial"/>
              <a:buChar char="­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gram brochures, catalogs &amp; pos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86000" indent="-258840">
              <a:spcBef>
                <a:spcPts val="624"/>
              </a:spcBef>
              <a:buClr>
                <a:srgbClr val="ffffff"/>
              </a:buClr>
              <a:buFont typeface="Arial"/>
              <a:buChar char="­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iswand v. Cornell (198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916280" indent="-304920">
              <a:spcBef>
                <a:spcPts val="587"/>
              </a:spcBef>
              <a:buClr>
                <a:srgbClr val="ffffff"/>
              </a:buClr>
              <a:buSzPct val="90000"/>
              <a:buFont typeface="Arial"/>
              <a:buChar char="¯"/>
              <a:tabLst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Cornell U unintentionally guaranteed a student’s safety in writing and was later held responsible for student’s inju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egal Responsibilit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07880" y="1557000"/>
            <a:ext cx="820584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ed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Federal regulations and legislation:  US government has adopted a variety of laws &amp; policies affecting higher education, which may affect international education.  They include standards on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624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X (Earlham College &amp; E. Michigan cas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624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mpus Security -- Clery Act (Crime Report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624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A (Disabiliti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86000" indent="-258840">
              <a:spcBef>
                <a:spcPts val="624"/>
              </a:spcBef>
              <a:buClr>
                <a:srgbClr val="ffffff"/>
              </a:buClr>
              <a:buFont typeface="Arial"/>
              <a:buChar char="­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ear communications re reality of circumst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624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RPA (Student Records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ternational Responsibilit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4200" y="1905120"/>
            <a:ext cx="8161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Your responsibility to your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tudents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is to ensure that they receive all the information and assistance they need and that they understand their own responsibility for maintaining their health and well be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Your responsibility to your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institution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is to see that your program complies with relevant statues and regulations and that institutional liability is minimized through careful planning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600360" y="6278400"/>
            <a:ext cx="4721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5087880" y="51577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.E. G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FSA’s Guide to Education Abr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or Advisers and Administra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uidance for Administrators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7280" indent="-26064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eive the relevant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7280" indent="-26064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eive the necessary assis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7280" indent="-26064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their responsib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7280" indent="0">
              <a:spcBef>
                <a:spcPts val="624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9720" indent="-27972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titution/Emplo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7280" indent="-26064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y with statutes/legislation/regula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7280" indent="-26064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mize institutional li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480" indent="-252720">
              <a:spcBef>
                <a:spcPts val="624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icies/Proced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480" indent="-252720">
              <a:spcBef>
                <a:spcPts val="624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isis P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480" indent="-252720">
              <a:spcBef>
                <a:spcPts val="624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Continuity P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7280" indent="-26064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duct periodic risk assessment audi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sponsibility to Studen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48392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57040" indent="-25704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lude par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disclosure of r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5080" indent="-23976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ltural differences, cri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on of fitness of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5080" indent="-23976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dical ex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5080" indent="-23976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lth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5080" indent="-23976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5080" indent="-23976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tal health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ticipation forms/wa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tain veto 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ientation – home campus, on-site, inter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olicies and Procedur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7880" y="1844280"/>
            <a:ext cx="820584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ate a Study Abroad Administ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iew contractual language with collaborators and/or partici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e extraterritoriality of Canadian Legis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opt a Code of Conduct for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age transportation r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iew hous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risis Pla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is of relevant r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age high risk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ergency action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cuation, repatriation, and safe ha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at is Risk Management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effective principles and practices to manage risk in institutions of higher educ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nowledge of risk pro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emnification (transfer of ris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ss control prevention meas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al liab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al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protect the reputation and resources of institution through sound risk management practices in all aspects of the operation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best practices for risk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aborate across all areas of campus to embed a culture of risk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risis Action Plan for Overseas Program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ocol for Response to cri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y Crisis Management Team (UCM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d and comprehensive 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 with On Site Coord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ty Relations and Media Cont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itment of Resources – Insu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l Autho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ive VP for Academic Affai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0">
              <a:spcBef>
                <a:spcPts val="751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0">
              <a:spcBef>
                <a:spcPts val="751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surance Issu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9520" y="1557000"/>
            <a:ext cx="820584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ze Institutional insurance (domestic and local country) to verify coverage in foreign jurisdi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kers compen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751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 Defense Base Act WC effective 8/1/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86000" indent="-258840">
              <a:spcBef>
                <a:spcPts val="751"/>
              </a:spcBef>
              <a:buClr>
                <a:srgbClr val="ffffff"/>
              </a:buClr>
              <a:buFont typeface="Arial"/>
              <a:buChar char="­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datory coverage required to be carried by US government for any US entity contracting with the US government on work taking place in foreign lands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mobile 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 coverage (student &amp; staf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surance issu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insurance issu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eign travel accident, medical evacuation and repatriation cove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751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ivil un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udent health insuran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lly mandated insu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al Ris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idnap &amp; Rans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untry of China – Insurance Environmen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datory cove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obile Liability (placed with agent/brok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Security (compulsory by SS Bureau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kers Compensation (compulsory by WC Bureau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561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bour Law requir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561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-residents working temporarily for a non-registered US firm are not subject to the provisions of the local WC a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561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bour dispute arbitration system in Ch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561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te Fund has no recourse against emplo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sions exist for extra-territorial coverage under insurance coverage or official l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untry of China – Insurance Environment continued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gal Liability – Laws by which members of the public may seek indemnity for bodily injury and death or damage to their proper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l Principles of the Civil Law of PR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umer Protection L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w of Products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act Law, etc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l Liability (third par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recommended for American Enterpri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least US$1M (RMB 8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aims – courts / judges are inclined to liberal aw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9880" y="259920"/>
            <a:ext cx="8300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ther Considerat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36600" y="1844280"/>
            <a:ext cx="820584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verage options (include international 24-hour global and multilingual network for Medical Evacuation &amp; Repatriation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56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ational SOS Company, Philadelphia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1d1e0"/>
                </a:solidFill>
                <a:latin typeface="Arial"/>
              </a:rPr>
              <a:t>www.internationalsos.com/company/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(product demonstration page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56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H Worldwide, Radnor, PA -- </a:t>
            </a:r>
            <a:r>
              <a:rPr b="1" lang="en-US" sz="2000" spc="-1" strike="noStrike">
                <a:solidFill>
                  <a:srgbClr val="c1d1e0"/>
                </a:solidFill>
                <a:latin typeface="Arial"/>
              </a:rPr>
              <a:t>www.hthworldwide.com</a:t>
            </a:r>
            <a:r>
              <a:rPr b="0" lang="en-US" sz="1800" spc="-1" strike="noStrike">
                <a:solidFill>
                  <a:srgbClr val="c1d1e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ational health program and online health &amp; security inform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w policy for health insurance for foreign students in U.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ther Considerations (continued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79520" y="1773360"/>
            <a:ext cx="820584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dex Assistance, </a:t>
            </a:r>
            <a:r>
              <a:rPr b="1" lang="en-US" sz="2000" spc="-1" strike="noStrike">
                <a:solidFill>
                  <a:srgbClr val="c1d1e0"/>
                </a:solidFill>
                <a:latin typeface="Arial"/>
              </a:rPr>
              <a:t>www.medexassist.com/scholastic.cf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ergency medical evac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dically supervised retur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atriation of mortal remai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vel assistance for dependent childr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vel assistance for companion if member is hospitalized when travelling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versal Travel Protection --</a:t>
            </a:r>
            <a:r>
              <a:rPr b="1" lang="en-US" sz="2000" spc="-1" strike="noStrike">
                <a:solidFill>
                  <a:srgbClr val="c1d1e0"/>
                </a:solidFill>
                <a:latin typeface="Arial"/>
              </a:rPr>
              <a:t>www.utravelpro.com</a:t>
            </a:r>
            <a:r>
              <a:rPr b="0" lang="en-US" sz="2000" spc="-1" strike="noStrike">
                <a:solidFill>
                  <a:srgbClr val="c1d1e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nu approa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w Terrorism op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0">
              <a:spcBef>
                <a:spcPts val="499"/>
              </a:spcBef>
              <a:buNone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ansion of Global Programs – A Prio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s of Care – Are they Increas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ity of Exposure is on the R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 Management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nerships with Experts is a M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Luck ! !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sourc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pective” The Campus Legal Month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ational Study Abroad Programs:  A Critical Legal Planning Session” by Gary M. Rhodes, Ph.D., U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seas Security Advisory Council (OSAC) -- </a:t>
            </a:r>
            <a:r>
              <a:rPr b="0" lang="en-US" sz="2000" spc="-1" strike="noStrike">
                <a:solidFill>
                  <a:srgbClr val="c1d1e0"/>
                </a:solidFill>
                <a:latin typeface="Arial"/>
              </a:rPr>
              <a:t>www.ds-osac.org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Association of College &amp; University Attorneys (NACUA) -   </a:t>
            </a:r>
            <a:r>
              <a:rPr b="0" lang="en-US" sz="2000" spc="-1" strike="noStrike">
                <a:solidFill>
                  <a:srgbClr val="c1d1e0"/>
                </a:solidFill>
                <a:latin typeface="Arial"/>
              </a:rPr>
              <a:t>www.nacua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hronicle of Higher Education - </a:t>
            </a:r>
            <a:r>
              <a:rPr b="0" lang="en-US" sz="2000" spc="-1" strike="noStrike">
                <a:solidFill>
                  <a:srgbClr val="c1d1e0"/>
                </a:solidFill>
                <a:latin typeface="Arial"/>
              </a:rPr>
              <a:t>www.chronicle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Association of International Studies (NAFSA) - </a:t>
            </a:r>
            <a:r>
              <a:rPr b="0" lang="en-US" sz="2000" spc="-1" strike="noStrike">
                <a:solidFill>
                  <a:srgbClr val="c1d1e0"/>
                </a:solidFill>
                <a:latin typeface="Arial"/>
              </a:rPr>
              <a:t>www.nafsa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fety is an Important Part of Studying Abroad”, Mike Halligan, U of Utah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mpus Firewatch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bruary 2004, </a:t>
            </a:r>
            <a:r>
              <a:rPr b="0" lang="en-US" sz="2000" spc="-1" strike="noStrike">
                <a:solidFill>
                  <a:srgbClr val="c1d1e0"/>
                </a:solidFill>
                <a:latin typeface="Arial"/>
              </a:rPr>
              <a:t>www.campusfirewatch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sourc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.S. State Department -- </a:t>
            </a:r>
            <a:r>
              <a:rPr b="0" lang="en-US" sz="2000" spc="-1" strike="noStrike">
                <a:solidFill>
                  <a:srgbClr val="c1d1e0"/>
                </a:solidFill>
                <a:latin typeface="Arial"/>
              </a:rPr>
              <a:t>http://travel.state.gov/index.html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for student access --</a:t>
            </a:r>
            <a:r>
              <a:rPr b="0" lang="en-US" sz="2000" spc="-1" strike="noStrike">
                <a:solidFill>
                  <a:srgbClr val="c1d1e0"/>
                </a:solidFill>
                <a:latin typeface="Arial"/>
              </a:rPr>
              <a:t> http://travel.state.gov/studentinfo.htm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56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reau of Consular Affai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56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seas Citizens Services Tips for Stu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56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seas Security Advisory Counc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56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vel Safety for Student: Press Rel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56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vel Warn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56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ices and Info for American Citizens Abr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56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Consular Officers Can Help in An Emerg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56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ortant Telephone Nu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56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s to US Embassies and Consulates Worldw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56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reau of Educational and Cultural Affai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56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ntry Reports on Human Rights Pract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125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rends in Study Abroa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926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lege and University President’s Increase Emphasis on Internation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ng more Students with Less Resou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udy Abroad is more popular than ever among student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tional travel a critical component of higher educ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t term programs on the incr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e to the Developing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onsistent academic, support and safety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sourc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53468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76840" indent="-27684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U.S. Centers for Disease Control and Prevention - </a:t>
            </a:r>
            <a:r>
              <a:rPr b="0" lang="en-US" sz="2000" spc="-1" strike="noStrike" u="sng">
                <a:solidFill>
                  <a:srgbClr val="c1d1e0"/>
                </a:solidFill>
                <a:uFillTx/>
                <a:latin typeface="Arial"/>
              </a:rPr>
              <a:t>www.cdc.gov/tra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6840" indent="-27684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erican Council on Education (ACE)/The International Initiatives - </a:t>
            </a:r>
            <a:r>
              <a:rPr b="0" lang="en-US" sz="2000" spc="-1" strike="noStrike" u="sng">
                <a:solidFill>
                  <a:srgbClr val="c1d1e0"/>
                </a:solidFill>
                <a:uFillTx/>
                <a:latin typeface="Arial"/>
              </a:rPr>
              <a:t>www.acenet.ed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6840" indent="-27684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itute of International Education - </a:t>
            </a:r>
            <a:r>
              <a:rPr b="0" lang="en-US" sz="2000" spc="-1" strike="noStrike" u="sng">
                <a:solidFill>
                  <a:srgbClr val="c1d1e0"/>
                </a:solidFill>
                <a:uFillTx/>
                <a:latin typeface="Arial"/>
              </a:rPr>
              <a:t>www.iie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6840" indent="-27684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 Peace Corps - SAFETI Adaptation of Peace Corps Resou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6840" indent="-27684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ational Student - </a:t>
            </a:r>
            <a:r>
              <a:rPr b="0" lang="en-US" sz="2000" spc="-1" strike="noStrike" u="sng">
                <a:solidFill>
                  <a:srgbClr val="c1d1e0"/>
                </a:solidFill>
                <a:uFillTx/>
                <a:latin typeface="Arial"/>
              </a:rPr>
              <a:t>www.internationalstuden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6840" indent="-27684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 Abroad - </a:t>
            </a:r>
            <a:r>
              <a:rPr b="0" lang="en-US" sz="2000" spc="-1" strike="noStrike" u="sng">
                <a:solidFill>
                  <a:srgbClr val="c1d1e0"/>
                </a:solidFill>
                <a:uFillTx/>
                <a:latin typeface="Arial"/>
              </a:rPr>
              <a:t>www.studyabroad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6840" indent="-27684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er for Global Education/University of Southern California - </a:t>
            </a:r>
            <a:r>
              <a:rPr b="0" lang="en-US" sz="2000" spc="-1" strike="noStrike" u="sng">
                <a:solidFill>
                  <a:srgbClr val="c1d1e0"/>
                </a:solidFill>
                <a:uFillTx/>
                <a:latin typeface="Arial"/>
              </a:rPr>
              <a:t>www.usc.edu/globa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6840" indent="-276840">
              <a:spcBef>
                <a:spcPts val="12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ity Risk Management &amp; Insurance Association     </a:t>
            </a:r>
            <a:r>
              <a:rPr b="0" lang="en-US" sz="2000" spc="-1" strike="noStrike" u="sng">
                <a:solidFill>
                  <a:srgbClr val="c1d1e0"/>
                </a:solidFill>
                <a:uFillTx/>
                <a:latin typeface="Arial"/>
              </a:rPr>
              <a:t>www.urmia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6840"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2960" y="1125000"/>
            <a:ext cx="411624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an Demcha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ing Dire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sh Education Pract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860) 723-56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an.demchak@marsh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5484960" y="1125360"/>
            <a:ext cx="41162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1152360"/>
            <a:ext cx="9601200" cy="5705640"/>
          </a:xfrm>
          <a:prstGeom prst="rect">
            <a:avLst/>
          </a:prstGeom>
          <a:solidFill>
            <a:srgbClr val="003366">
              <a:alpha val="9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379520"/>
          <a:ext cx="9558360" cy="46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9520"/>
                    <a:ext cx="955836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-Year National Growth in Study Abroa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38040" y="6508800"/>
            <a:ext cx="890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OURCE: Open Doors, Institute of International Education, 2004/2005.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http://opendoors.iienetwork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77840" y="5870520"/>
            <a:ext cx="87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Y % Chan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Group 7"/>
          <p:cNvGrpSpPr/>
          <p:nvPr/>
        </p:nvGrpSpPr>
        <p:grpSpPr>
          <a:xfrm>
            <a:off x="1851120" y="5934240"/>
            <a:ext cx="7729200" cy="308880"/>
            <a:chOff x="1851120" y="5934240"/>
            <a:chExt cx="7729200" cy="308880"/>
          </a:xfrm>
        </p:grpSpPr>
        <p:sp>
          <p:nvSpPr>
            <p:cNvPr id="112" name="Text Box 8"/>
            <p:cNvSpPr/>
            <p:nvPr/>
          </p:nvSpPr>
          <p:spPr>
            <a:xfrm>
              <a:off x="1851120" y="593604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1.4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Text Box 9"/>
            <p:cNvSpPr/>
            <p:nvPr/>
          </p:nvSpPr>
          <p:spPr>
            <a:xfrm>
              <a:off x="2647080" y="5936040"/>
              <a:ext cx="87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4.6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3524040" y="593424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3.9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11"/>
            <p:cNvSpPr/>
            <p:nvPr/>
          </p:nvSpPr>
          <p:spPr>
            <a:xfrm>
              <a:off x="4400640" y="5934240"/>
              <a:ext cx="87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.6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12"/>
            <p:cNvSpPr/>
            <p:nvPr/>
          </p:nvSpPr>
          <p:spPr>
            <a:xfrm>
              <a:off x="5277240" y="5936040"/>
              <a:ext cx="87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7.4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13"/>
            <p:cNvSpPr/>
            <p:nvPr/>
          </p:nvSpPr>
          <p:spPr>
            <a:xfrm>
              <a:off x="6154200" y="593604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.4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14"/>
            <p:cNvSpPr/>
            <p:nvPr/>
          </p:nvSpPr>
          <p:spPr>
            <a:xfrm>
              <a:off x="7030440" y="5936040"/>
              <a:ext cx="87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8.5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 Box 15"/>
            <p:cNvSpPr/>
            <p:nvPr/>
          </p:nvSpPr>
          <p:spPr>
            <a:xfrm>
              <a:off x="7827120" y="5936040"/>
              <a:ext cx="8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9.6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16"/>
            <p:cNvSpPr/>
            <p:nvPr/>
          </p:nvSpPr>
          <p:spPr>
            <a:xfrm>
              <a:off x="8703720" y="5934240"/>
              <a:ext cx="87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7.7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Text Box 17"/>
          <p:cNvSpPr/>
          <p:nvPr/>
        </p:nvSpPr>
        <p:spPr>
          <a:xfrm>
            <a:off x="2808360" y="1817640"/>
            <a:ext cx="45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44% increase in the last dec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304920" y="6248520"/>
            <a:ext cx="493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Institute of International Education - 20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81080" y="990720"/>
          <a:ext cx="6728040" cy="54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990720"/>
                    <a:ext cx="6728040" cy="54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urrent Destinations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984240" y="6093000"/>
            <a:ext cx="52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Institute of International Education – November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rowing Destinations of Interest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28240" y="1798560"/>
            <a:ext cx="575964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gnificant increa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125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in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b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th Afric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Zealan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62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al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0">
              <a:spcBef>
                <a:spcPts val="624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026"/>
          <p:cNvSpPr/>
          <p:nvPr/>
        </p:nvSpPr>
        <p:spPr>
          <a:xfrm>
            <a:off x="552600" y="6237360"/>
            <a:ext cx="528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lincolncommission.org          November 20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2960" y="304920"/>
            <a:ext cx="83008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egislative Suppor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52240" y="1341000"/>
            <a:ext cx="820548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FSA Panel’s goal triple students studying abroa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4120" indent="-26352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coln Fellowship Progra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751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ase number of students to 1,000,00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751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pends / funding for student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5920" indent="-255600">
              <a:spcBef>
                <a:spcPts val="751"/>
              </a:spcBef>
              <a:buClr>
                <a:srgbClr val="ffffff"/>
              </a:buClr>
              <a:buSzPct val="40000"/>
              <a:buFont typeface="Wingdings" charset="2"/>
              <a:buChar char=""/>
              <a:tabLst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p priority destination:  developing countrie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1076400"/>
            <a:ext cx="9601200" cy="5781600"/>
          </a:xfrm>
          <a:prstGeom prst="rect">
            <a:avLst/>
          </a:prstGeom>
          <a:solidFill>
            <a:srgbClr val="003366">
              <a:alpha val="9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58840" y="1306440"/>
          <a:ext cx="9236160" cy="50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840" y="1306440"/>
                    <a:ext cx="9236160" cy="50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4"/>
          <p:cNvSpPr/>
          <p:nvPr/>
        </p:nvSpPr>
        <p:spPr>
          <a:xfrm>
            <a:off x="6640560" y="5867280"/>
            <a:ext cx="27576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OURCE: Open Doors, Institute of International Education, 2004/2005.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http://opendoors.iienetwork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79520" y="0"/>
            <a:ext cx="84661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ace/Ethnicity Demographics of U.S. Study Abroad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9:56:24Z</dcterms:created>
  <dc:creator>Jean Demchak</dc:creator>
  <dc:description>MMCOA Templates
Marsh &amp; McLennan Companies</dc:description>
  <dc:language>en-US</dc:language>
  <cp:lastModifiedBy>user2006</cp:lastModifiedBy>
  <cp:lastPrinted>2004-03-12T20:09:05Z</cp:lastPrinted>
  <dcterms:modified xsi:type="dcterms:W3CDTF">2009-09-18T17:12:09Z</dcterms:modified>
  <cp:revision>97</cp:revision>
  <dc:subject/>
  <dc:title>Study Abroad Progra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OA_FontSize">
    <vt:lpwstr>Medium</vt:lpwstr>
  </property>
  <property fmtid="{D5CDD505-2E9C-101B-9397-08002B2CF9AE}" pid="3" name="MMCOA_Template">
    <vt:lpwstr>MMC Medium Fonts.pot</vt:lpwstr>
  </property>
  <property fmtid="{D5CDD505-2E9C-101B-9397-08002B2CF9AE}" pid="4" name="_AdHocReviewCycleID">
    <vt:r8>-583652316</vt:r8>
  </property>
  <property fmtid="{D5CDD505-2E9C-101B-9397-08002B2CF9AE}" pid="5" name="_AuthorEmail">
    <vt:lpwstr>breeding@rci.rutgers.edu</vt:lpwstr>
  </property>
  <property fmtid="{D5CDD505-2E9C-101B-9397-08002B2CF9AE}" pid="6" name="_AuthorEmailDisplayName">
    <vt:lpwstr>James A. Breeding</vt:lpwstr>
  </property>
  <property fmtid="{D5CDD505-2E9C-101B-9397-08002B2CF9AE}" pid="7" name="_EmailSubject">
    <vt:lpwstr>EACUBO Workshop</vt:lpwstr>
  </property>
  <property fmtid="{D5CDD505-2E9C-101B-9397-08002B2CF9AE}" pid="8" name="_ReviewingToolsShownOnce">
    <vt:lpwstr/>
  </property>
</Properties>
</file>