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720720" y="742680"/>
            <a:ext cx="520056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70CD-4718-40BB-991A-2BC38F9770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DC74-A37F-40F3-9F23-B4CA0F6F3A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C0EE-2506-42E3-99CD-38934E1F4C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960D-786F-4870-AEE2-54B0F32868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00280" y="459252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A938-5645-4B5F-9A8E-3CB33B2466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CE9F-E647-4FFB-A12F-75E215FE93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214B-329D-419C-9FCE-943A4E6CE2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DE62-5050-4385-A976-10B818A9F5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87560" y="480852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8865-D5E9-451B-9A3B-52DE321757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E1C9-4885-43A8-BC92-BB0DF801F9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FA8A-80F8-47D8-BE47-9105BFAE9D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71200" y="4735440"/>
            <a:ext cx="4869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6AAC-5C11-4477-98D7-56379ACC12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D708-C539-4BC2-BD8E-74361473FB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31E0-201F-4BE1-A5B7-159191D642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BE85-596F-49FB-8F5E-1CAE4DCC33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E2BF-A153-4E7E-8251-F261F488FA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C975-D850-423D-AA37-2F8417D17A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32F2-626C-43CE-A4B0-4A20A0DAEC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602D-A775-42E0-960E-1D4DF494F3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82CA-6977-4A83-8B69-04463B6015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EAFF-1984-46A0-94FE-1553736DA6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14A2-20C7-4A61-8895-544ACF13FB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59AD-456F-4AA2-A597-97D09979A6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4F90-F68F-42D1-90D6-BF78BA4A78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1450-A178-418A-A414-4655DD9302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ACE-F25B-45C8-9683-26D5FE734F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3A6E-ED4F-423E-BB80-395820CC5C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97EF-45C1-4620-ABB7-6B3AAF2A1E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E4D2-0C0A-433F-AAC4-1653B30C24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0DAA-83CC-4FFA-BE29-14E1DBA444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38A0-0668-4FFA-A072-432B16C3FC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9DC6-3E6F-410F-934E-08B0C9E26A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A015-4B46-479A-9458-68A3BB1808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01C-4563-4BAA-A35E-51583739CF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A1FD-D36C-45B7-B08E-A31F77A043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71200" y="4808520"/>
            <a:ext cx="4869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B32B-757F-437B-BB34-64EB11472C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D90E-97B2-4F4A-8FDA-25CFDA99DD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13EA-275F-46AD-97FD-0A7EDC4AD0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BBE1-517E-4B40-8D43-ECAEB48A9D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1021-4047-4087-833B-16DD4E897D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28280" y="4664160"/>
            <a:ext cx="4869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D20E-3668-4C77-ADCF-C95F458B29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28280" y="4592520"/>
            <a:ext cx="4869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E632-9639-45FA-B2D9-1986EA82B7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8712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164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260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8712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164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2960" y="304920"/>
            <a:ext cx="8300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8712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6164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260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8712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6164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2960" y="304920"/>
            <a:ext cx="8300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0"/>
            <a:ext cx="2527200" cy="1262160"/>
            <a:chOff x="0" y="0"/>
            <a:chExt cx="2527200" cy="1262160"/>
          </a:xfrm>
        </p:grpSpPr>
        <p:sp>
          <p:nvSpPr>
            <p:cNvPr id="1" name="Rectangle 90"/>
            <p:cNvSpPr/>
            <p:nvPr/>
          </p:nvSpPr>
          <p:spPr>
            <a:xfrm>
              <a:off x="27000" y="0"/>
              <a:ext cx="2500200" cy="1262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91"/>
            <p:cNvSpPr/>
            <p:nvPr/>
          </p:nvSpPr>
          <p:spPr>
            <a:xfrm>
              <a:off x="0" y="0"/>
              <a:ext cx="1262160" cy="126216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912960" y="6314760"/>
            <a:ext cx="7959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ageRef"/>
          <p:cNvSpPr/>
          <p:nvPr/>
        </p:nvSpPr>
        <p:spPr>
          <a:xfrm>
            <a:off x="8724960" y="6291360"/>
            <a:ext cx="4474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E0C2114A-2299-4D53-BBEE-770B3C39C2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1250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1250"/>
              </a:spcBef>
              <a:buClr>
                <a:srgbClr val="ffffff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6280" indent="-304920">
              <a:spcBef>
                <a:spcPts val="1250"/>
              </a:spcBef>
              <a:buClr>
                <a:srgbClr val="000000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916280" indent="-3049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916280" indent="-3049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ileRef"/>
          <p:cNvSpPr/>
          <p:nvPr/>
        </p:nvSpPr>
        <p:spPr>
          <a:xfrm>
            <a:off x="5181480" y="6386400"/>
            <a:ext cx="35737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600200" y="1295280"/>
            <a:ext cx="6400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16"/>
          <p:cNvGrpSpPr/>
          <p:nvPr/>
        </p:nvGrpSpPr>
        <p:grpSpPr>
          <a:xfrm>
            <a:off x="0" y="1828800"/>
            <a:ext cx="9601200" cy="3198960"/>
            <a:chOff x="0" y="1828800"/>
            <a:chExt cx="9601200" cy="3198960"/>
          </a:xfrm>
        </p:grpSpPr>
        <p:sp>
          <p:nvSpPr>
            <p:cNvPr id="46" name="Rectangle 210"/>
            <p:cNvSpPr/>
            <p:nvPr/>
          </p:nvSpPr>
          <p:spPr>
            <a:xfrm>
              <a:off x="0" y="1828800"/>
              <a:ext cx="9601200" cy="319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360" bIns="45360" anchor="ctr">
              <a:noAutofit/>
            </a:bodyPr>
            <a:p>
              <a:pPr algn="ctr"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211"/>
            <p:cNvSpPr/>
            <p:nvPr/>
          </p:nvSpPr>
          <p:spPr>
            <a:xfrm>
              <a:off x="0" y="1828800"/>
              <a:ext cx="3198960" cy="319896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360" bIns="45360" anchor="ctr">
              <a:noAutofit/>
            </a:bodyPr>
            <a:p>
              <a:pPr algn="ctr"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" name="LogoMainW" descr="mar_w"/>
          <p:cNvPicPr/>
          <p:nvPr/>
        </p:nvPicPr>
        <p:blipFill>
          <a:blip r:embed="rId3"/>
          <a:stretch/>
        </p:blipFill>
        <p:spPr>
          <a:xfrm>
            <a:off x="914400" y="304920"/>
            <a:ext cx="1527120" cy="1060200"/>
          </a:xfrm>
          <a:prstGeom prst="rect">
            <a:avLst/>
          </a:prstGeom>
          <a:ln w="0">
            <a:noFill/>
          </a:ln>
        </p:spPr>
      </p:pic>
      <p:pic>
        <p:nvPicPr>
          <p:cNvPr id="49" name="LogoMainK" descr="mar_k"/>
          <p:cNvPicPr/>
          <p:nvPr/>
        </p:nvPicPr>
        <p:blipFill>
          <a:blip r:embed="rId4"/>
          <a:stretch/>
        </p:blipFill>
        <p:spPr>
          <a:xfrm>
            <a:off x="914400" y="304920"/>
            <a:ext cx="152712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LogoEndorsementW" descr="mmc_end_w"/>
          <p:cNvPicPr/>
          <p:nvPr/>
        </p:nvPicPr>
        <p:blipFill>
          <a:blip r:embed="rId5"/>
          <a:stretch/>
        </p:blipFill>
        <p:spPr>
          <a:xfrm>
            <a:off x="914400" y="5943600"/>
            <a:ext cx="249876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LogoEndorsementK" descr="mmc_end_k"/>
          <p:cNvPicPr/>
          <p:nvPr/>
        </p:nvPicPr>
        <p:blipFill>
          <a:blip r:embed="rId6"/>
          <a:stretch/>
        </p:blipFill>
        <p:spPr>
          <a:xfrm>
            <a:off x="914400" y="5943600"/>
            <a:ext cx="249876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1250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1250"/>
              </a:spcBef>
              <a:buClr>
                <a:srgbClr val="ffffff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6280" indent="-304920">
              <a:spcBef>
                <a:spcPts val="1250"/>
              </a:spcBef>
              <a:buClr>
                <a:srgbClr val="000000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916280" indent="-3049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916280" indent="-3049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9160" y="1980720"/>
            <a:ext cx="9505800" cy="1420920"/>
          </a:xfrm>
          <a:prstGeom prst="rect">
            <a:avLst/>
          </a:prstGeom>
          <a:noFill/>
          <a:ln w="0">
            <a:noFill/>
          </a:ln>
        </p:spPr>
        <p:txBody>
          <a:bodyPr lIns="0" rIns="84600" tIns="42480" bIns="424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AVEL WIS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naging Off-Campus Safety and Risk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Managing the Risks for International Studies”</a:t>
            </a:r>
            <a:br>
              <a:rPr sz="3200"/>
            </a:b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ch 23, 2009</a:t>
            </a:r>
            <a:br>
              <a:rPr sz="32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295880" y="5877000"/>
            <a:ext cx="505296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ean Demchak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obal Leader, Education Prac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veloping Concer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dnappings are comm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gnificant income stra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624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al political confli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624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upt gover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624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 Qaeda’s Global Network of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rica, Middle East, Central Asia, Southeast 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80880" y="624852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SAFETI On-Line Newsletter, Volume 2, #2, Fall-Winter 2001/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rrorism’s Impact on Study Abroad?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lines for safe study abroad progra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belongs at the foundation of a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ate a security manager or manag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 in security evaluations of host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from institutions that have suffered critical inc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in advice from a security profes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risk and evacuation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 pitfall of “more remote, more reward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olve fami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 security plans and nurture student awar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ypes of Programs &amp; Activ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2600" y="198864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credit work exper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ships/servi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land programs/faculty 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bri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enrollment/imm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ior” term/Ma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th-based mission out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ypes of Programs &amp; Activ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2600" y="198864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ulty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bbat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ul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ni tri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tional business travel by faculty/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ernational Risk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258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re ne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ervise social and athletic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 injuries caused by substance ab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dequate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 saf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 hara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90760" y="1534680"/>
            <a:ext cx="40273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re no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rienced facul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 and interpre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familiar leg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acu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standard health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s of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cohol Consumption Overseas for US Students Under 21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9880" y="1773360"/>
            <a:ext cx="820584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llenging question for US institutions where under 21 alcohol consumption is allowed in certain countri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ever approach your institution takes, three factors remain important for liability purpo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ain your approach in writing to students and, as appropriate, their pare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force your policy consistentl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information about your policy in your release or waiver form that students (and parents) sig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ernational Travel Incid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2600" y="198864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obi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es: hired and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dily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pe, sexual harassment, ass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xual Misconduct (students and trip lead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utgers University: Incidents and Claim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9880" y="155700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obi Fora Field Station, Kenya: Vehicle up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ida, Mexico: Sexual Assault (Rohypnol/Alcoh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encia, Spain: Knifing Assault, Improper Admission of Particip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ifa, Israel: FX Spine, Rock Climb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rid, Spain:  Sleep Walking, Fall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, Alcohol, No HIV Blood Supply Testing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Delhi, India: Severe Illness after Fum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ghai, China:  Students present when US Bombed Chinese Embassy, Increased Anti-American sent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loco parent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82044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“…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t is clear that parents and family members of students injured or killed in international studies tragedies are firmly advancing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in loco parenti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theor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792600" y="4653000"/>
            <a:ext cx="54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Richard C. K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iability Issues in International Stu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” Mod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28800" y="2057400"/>
          <a:ext cx="5943600" cy="32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9436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00240" y="1773360"/>
            <a:ext cx="72007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Travel Statistic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s of Program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 of International Trave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ment of the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Fin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lements of Neglig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6600" y="1916280"/>
            <a:ext cx="840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eless performance of a legal duty that causes har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ing to act reasonably when there is a duty to do s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below the established legal norm for protecting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now The Legal Clim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0520" y="1676160"/>
            <a:ext cx="7897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it the same away from campus as on camp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rt The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deral Regulations and Legis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is the legal climate different when outside of the Canadian bord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d litigiousness in American society in general --- teaching others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w legal prece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 headline:  “Travel Abroad, Sue at Ho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gal Responsibil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9520" y="1700280"/>
            <a:ext cx="820584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areas of law that may affect study abroad liability risks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Tort Liability:  claims which involve negligence such as failure to protect others from a reasonable risk of har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international study cases, institutions have a legal “duty of care” for particip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gal Responsibil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7880" y="162828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ed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Contract Law:  documented relationships between participants &amp; program.  Any written agreement determines responsibility and right of involved parties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representations by program sponsor may be considered by court, includ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624"/>
              </a:spcBef>
              <a:buClr>
                <a:srgbClr val="ffffff"/>
              </a:buClr>
              <a:buFont typeface="Arial"/>
              <a:buChar char="­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brochures, catalogs &amp; po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624"/>
              </a:spcBef>
              <a:buClr>
                <a:srgbClr val="ffffff"/>
              </a:buClr>
              <a:buFont typeface="Arial"/>
              <a:buChar char="­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iswand v. Cornell (198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6280" indent="-304920">
              <a:spcBef>
                <a:spcPts val="587"/>
              </a:spcBef>
              <a:buClr>
                <a:srgbClr val="ffffff"/>
              </a:buClr>
              <a:buSzPct val="90000"/>
              <a:buFont typeface="Arial"/>
              <a:buChar char="¯"/>
              <a:tabLst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ornell U unintentionally guaranteed a student’s safety in writing and was later held responsible for student’s inju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gal Responsibil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7880" y="155700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ed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Federal regulations and legislation:  US government has adopted a variety of laws &amp; policies affecting higher education, which may affect international education.  They include standards on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X (Earlham College &amp; E. Michigan ca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mpus Security -- Clery Act (Crime Repor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 (Disabilit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624"/>
              </a:spcBef>
              <a:buClr>
                <a:srgbClr val="ffffff"/>
              </a:buClr>
              <a:buFont typeface="Arial"/>
              <a:buChar char="­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communications re reality of circum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RPA (Student Records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ernational Responsibil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161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our responsibility to your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tudent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is to ensure that they receive all the information and assistance they need and that they understand their own responsibility for maintaining their health and well be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our responsibility to your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institution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is to see that your program complies with relevant statues and regulations and that institutional liability is minimized through careful planning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600360" y="6278400"/>
            <a:ext cx="472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087880" y="51577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.E. G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FSA’s Guide to Education Ab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Advisers and Administr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uidance for Administrator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 the relevant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 the necessary ass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ir responsi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0">
              <a:spcBef>
                <a:spcPts val="624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itution/Emplo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y with statutes/legislation/regul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institutional l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480" indent="-25272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icies/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480" indent="-25272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isis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480" indent="-25272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Continuity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uct periodic risk assessment audi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ponsibility to Stud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48392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lude par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disclosure of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5080" indent="-23976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ltural differences, cri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on of fitness of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5080" indent="-23976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cal ex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5080" indent="-23976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5080" indent="-23976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5080" indent="-23976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tal health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icipation forms/wa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ain veto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ientation – home campus, on-site, inter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licies and Procedur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7880" y="184428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ate a Study Abroad Administ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contractual language with collaborators and/or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e extraterritoriality of Canadian Legi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opt a Code of Conduct fo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 transportation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hous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isis Pla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relevant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 high risk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ency actio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cuation, repatriation, and safe ha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is Risk Management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ffective principles and practices to manage risk in institutions of higher edu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ledge of risk pro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emnification (transfer of ris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s control prevention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l li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rotect the reputation and resources of institution through sound risk management practices in all aspects of the operatio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best practices for risk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e across all areas of campus to embed a culture of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isis Action Plan for Overseas Progra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 for Response to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Crisis Management Team (UCM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d and comprehensiv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with On Site Coord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Relations and Media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tment of Resources – In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l Auth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VP for Academic Aff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751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751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surance Issu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9520" y="155700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e Institutional insurance (domestic and local country) to verify coverage in foreign jurisdi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ers comp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75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Defense Base Act WC effective 8/1/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751"/>
              </a:spcBef>
              <a:buClr>
                <a:srgbClr val="ffffff"/>
              </a:buClr>
              <a:buFont typeface="Arial"/>
              <a:buChar char="­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datory coverage required to be carried by US government for any US entity contracting with the US government on work taking place in foreign land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obile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coverage (student &amp; sta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surance issu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insurance iss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ign travel accident, medical evacuation and repatriation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75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vil un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 health insur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ly mandated in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 Ris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dnap &amp; Rans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untry of China – Insurance Environmen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datory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obile Liability (placed with agent/brok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Security (compulsory by SS Burea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ers Compensation (compulsory by WC Burea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56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bour Law requir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56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residents working temporarily for a non-registered US firm are not subject to the provisions of the local WC 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56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bour dispute arbitration system in 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56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 Fund has no recourse against emplo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sions exist for extra-territorial coverage under insurance coverage or official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untry of China – Insurance Environment continued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gal Liability – Laws by which members of the public may seek indemnity for bodily injury and death or damage to their proper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 Principles of the Civil Law of P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Protection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w of Products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act Law, etc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Liability (third par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recommended for American Enterpr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least US$1M (RMB 8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ims – courts / judges are inclined to liberal a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9880" y="259920"/>
            <a:ext cx="8300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ther Consider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36600" y="184428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verage options (include international 24-hour global and multilingual network for Medical Evacuation &amp; Repatriation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ational SOS Company, Philadelphia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1d1e0"/>
                </a:solidFill>
                <a:latin typeface="Arial"/>
              </a:rPr>
              <a:t>www.internationalsos.com/company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(product demonstration page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H Worldwide, Radnor, PA -- </a:t>
            </a:r>
            <a:r>
              <a:rPr b="1" lang="en-US" sz="2000" spc="-1" strike="noStrike">
                <a:solidFill>
                  <a:srgbClr val="c1d1e0"/>
                </a:solidFill>
                <a:latin typeface="Arial"/>
              </a:rPr>
              <a:t>www.hthworldwide.com</a:t>
            </a:r>
            <a:r>
              <a:rPr b="0" lang="en-US" sz="1800" spc="-1" strike="noStrike">
                <a:solidFill>
                  <a:srgbClr val="c1d1e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health program and online health &amp; security 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policy for health insurance for foreign students in U.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ther Considerations (continued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9520" y="1773360"/>
            <a:ext cx="820584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ex Assistance, </a:t>
            </a:r>
            <a:r>
              <a:rPr b="1" lang="en-US" sz="2000" spc="-1" strike="noStrike">
                <a:solidFill>
                  <a:srgbClr val="c1d1e0"/>
                </a:solidFill>
                <a:latin typeface="Arial"/>
              </a:rPr>
              <a:t>www.medexassist.com/scholastic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ergency medical evac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ically supervised retu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atriation of mortal remai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vel assistance for dependent childr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vel assistance for companion if member is hospitalized when travell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versal Travel Protection --</a:t>
            </a:r>
            <a:r>
              <a:rPr b="1" lang="en-US" sz="2000" spc="-1" strike="noStrike">
                <a:solidFill>
                  <a:srgbClr val="c1d1e0"/>
                </a:solidFill>
                <a:latin typeface="Arial"/>
              </a:rPr>
              <a:t>www.utravelpro.com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nu appro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Terrorism op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0">
              <a:spcBef>
                <a:spcPts val="499"/>
              </a:spcBef>
              <a:buNone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sion of Global Programs – A 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of Care – Are they Increas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Exposure is on the 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Management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nerships with Experts is a M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Luck ! !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pective” The Campus Legal Month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tional Study Abroad Programs:  A Critical Legal Planning Session” by Gary M. Rhodes, Ph.D., U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seas Security Advisory Council (OSAC) --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www.ds-osac.org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Association of College &amp; University Attorneys (NACUA) -  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www.nacua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ronicle of Higher Education -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www.chronicl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Association of International Studies (NAFSA) -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www.nafsa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is an Important Part of Studying Abroad”, Mike Halligan, U of Utah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mpus Firewatch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bruary 2004,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www.campusfirewatch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State Department --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http://travel.state.gov/index.html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for student access --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 http://travel.state.gov/studentinfo.htm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reau of Consular Affai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seas Citizens Services Tips for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seas Security Advisor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vel Safety for Student: Press Rel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vel War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s and Info for American Citizens Ab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nsular Officers Can Help in An Emerg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ant Tele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 to US Embassies and Consulates Worldw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reau of Educational and Cultural Affai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ntry Reports on Human Rights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1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ends in Study Abro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926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lege and University President’s Increase Emphasis on Internation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ng more Students with Less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y Abroad is more popular than ever among student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travel a critical component of higher edu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term programs on the inc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to the Developing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onsistent academic, support and safety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U.S. Centers for Disease Control and Prevention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cdc.gov/tra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Council on Education (ACE)/The International Initiatives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acenet.e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te of International Education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iie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 Peace Corps - SAFETI Adaptation of Peace Corps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tional Student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internationalstuden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Abroad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studyabroa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Global Education/University of Southern California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usc.edu/globa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Risk Management &amp; Insurance Association    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urmia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2960" y="1125000"/>
            <a:ext cx="41162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an Demcha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ing Dir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sh Education Pract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860) 723-56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an.demchak@marsh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5484960" y="1125360"/>
            <a:ext cx="4116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1152360"/>
            <a:ext cx="9601200" cy="5705640"/>
          </a:xfrm>
          <a:prstGeom prst="rect">
            <a:avLst/>
          </a:prstGeom>
          <a:solidFill>
            <a:srgbClr val="003366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379520"/>
          <a:ext cx="955836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9520"/>
                    <a:ext cx="955836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-Year National Growth in Study Abro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38040" y="6508800"/>
            <a:ext cx="890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OURCE: Open Doors, Institute of International Education, 2004/2005.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http://opendoors.iienetwork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77840" y="5870520"/>
            <a:ext cx="87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Y % Ch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7"/>
          <p:cNvGrpSpPr/>
          <p:nvPr/>
        </p:nvGrpSpPr>
        <p:grpSpPr>
          <a:xfrm>
            <a:off x="1851120" y="5934240"/>
            <a:ext cx="7729200" cy="308880"/>
            <a:chOff x="1851120" y="5934240"/>
            <a:chExt cx="7729200" cy="308880"/>
          </a:xfrm>
        </p:grpSpPr>
        <p:sp>
          <p:nvSpPr>
            <p:cNvPr id="112" name="Text Box 8"/>
            <p:cNvSpPr/>
            <p:nvPr/>
          </p:nvSpPr>
          <p:spPr>
            <a:xfrm>
              <a:off x="1851120" y="593604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.4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2647080" y="5936040"/>
              <a:ext cx="87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.6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3524040" y="593424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3.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4400640" y="5934240"/>
              <a:ext cx="87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.6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5277240" y="5936040"/>
              <a:ext cx="87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.4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6154200" y="593604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4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7030440" y="5936040"/>
              <a:ext cx="87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.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7827120" y="593604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.6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8703720" y="5934240"/>
              <a:ext cx="87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.7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 Box 17"/>
          <p:cNvSpPr/>
          <p:nvPr/>
        </p:nvSpPr>
        <p:spPr>
          <a:xfrm>
            <a:off x="2808360" y="1817640"/>
            <a:ext cx="45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44% increase in the last dec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04920" y="6248520"/>
            <a:ext cx="49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Institute of International Education -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81080" y="990720"/>
          <a:ext cx="6728040" cy="54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990720"/>
                    <a:ext cx="6728040" cy="54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urrent Destination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984240" y="609300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Institute of International Education – November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wing Destinations of Interest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28240" y="1798560"/>
            <a:ext cx="57596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ificant increa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1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b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 Afric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Zeala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al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624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026"/>
          <p:cNvSpPr/>
          <p:nvPr/>
        </p:nvSpPr>
        <p:spPr>
          <a:xfrm>
            <a:off x="552600" y="623736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lincolncommission.org          November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gislative Sup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2240" y="134100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FSA Panel’s goal triple students studying abroa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coln Fellowship Progra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75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number of students to 1,000,00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75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pends / funding for student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75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 priority destination:  developing countri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1076400"/>
            <a:ext cx="9601200" cy="5781600"/>
          </a:xfrm>
          <a:prstGeom prst="rect">
            <a:avLst/>
          </a:prstGeom>
          <a:solidFill>
            <a:srgbClr val="003366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8840" y="1306440"/>
          <a:ext cx="9236160" cy="50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306440"/>
                    <a:ext cx="923616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4"/>
          <p:cNvSpPr/>
          <p:nvPr/>
        </p:nvSpPr>
        <p:spPr>
          <a:xfrm>
            <a:off x="6640560" y="5867280"/>
            <a:ext cx="2757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OURCE: Open Doors, Institute of International Education, 2004/2005.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http://opendoors.iienetwork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79520" y="0"/>
            <a:ext cx="84661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ace/Ethnicity Demographics of U.S. Study Abroad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56:24Z</dcterms:created>
  <dc:creator>Jean Demchak</dc:creator>
  <dc:description>MMCOA Templates
Marsh &amp; McLennan Companies</dc:description>
  <dc:language>en-US</dc:language>
  <cp:lastModifiedBy>user2006</cp:lastModifiedBy>
  <cp:lastPrinted>2004-03-12T20:09:05Z</cp:lastPrinted>
  <dcterms:modified xsi:type="dcterms:W3CDTF">2009-09-18T17:12:09Z</dcterms:modified>
  <cp:revision>97</cp:revision>
  <dc:subject/>
  <dc:title>Study Abroad Pro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MMC Medium Fonts.pot</vt:lpwstr>
  </property>
  <property fmtid="{D5CDD505-2E9C-101B-9397-08002B2CF9AE}" pid="4" name="_AdHocReviewCycleID">
    <vt:r8>-583652316</vt:r8>
  </property>
  <property fmtid="{D5CDD505-2E9C-101B-9397-08002B2CF9AE}" pid="5" name="_AuthorEmail">
    <vt:lpwstr>breeding@rci.rutgers.edu</vt:lpwstr>
  </property>
  <property fmtid="{D5CDD505-2E9C-101B-9397-08002B2CF9AE}" pid="6" name="_AuthorEmailDisplayName">
    <vt:lpwstr>James A. Breeding</vt:lpwstr>
  </property>
  <property fmtid="{D5CDD505-2E9C-101B-9397-08002B2CF9AE}" pid="7" name="_EmailSubject">
    <vt:lpwstr>EACUBO Workshop</vt:lpwstr>
  </property>
  <property fmtid="{D5CDD505-2E9C-101B-9397-08002B2CF9AE}" pid="8" name="_ReviewingToolsShownOnce">
    <vt:lpwstr/>
  </property>
</Properties>
</file>